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applause.wav" ContentType="audio/x-wav"/>
  <Override PartName="/ppt/media/drumroll.wav" ContentType="audio/x-wav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5.jpeg" ContentType="image/jpeg"/>
  <Override PartName="/ppt/media/image6.wmf" ContentType="image/x-wmf"/>
  <Override PartName="/ppt/media/image11.wmf" ContentType="image/x-wmf"/>
  <Override PartName="/ppt/media/image7.jpeg" ContentType="image/jpeg"/>
  <Override PartName="/ppt/media/image12.jpeg" ContentType="image/jpeg"/>
  <Override PartName="/ppt/media/image10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928A-24A5-4A01-B1C0-B8E9E73EC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4476-1DEB-4064-B41F-E7CDC7FA0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3F6B-09B7-4181-9484-A1FF1A716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DD78-F7D2-488F-899B-6B17556BB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D04F1-07D8-4ADD-801D-30442E7B5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C3BEE-265B-4076-8C3F-9806608AC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6ED36-0676-416E-A694-FC3426712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92231-039B-4EEB-B4AF-527BC4DFE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4C052-51BC-4B82-8914-D8D35FFEB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4A954-38CE-45BE-BD31-71B086F0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37EBC-A049-4929-8C10-2D3400B3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5135-887E-488B-8713-3A77F452C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58B03-4569-4DE9-946B-250338A3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10D53-689E-471A-B520-5E8E9D76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DCA40-CE77-4459-BC40-EA74EDCD0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6D548-B3A5-410F-8167-4646A7E4F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79F89-EBCF-4866-97D7-CEF0EE540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542F-29BB-4F80-A878-A4400AA4E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A790-822C-41AD-9963-EBD117101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322C-5231-4CA7-BA98-3D70DE4C0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A008-B69B-4E9B-B530-B1CAC7B6F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7FB0-B539-4A3D-B3A9-EB1E3097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F345-59B0-4A45-973F-0781022E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DEA5-9595-48BA-9D34-0BF14485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64C68-2C86-42F0-853B-AA9580F54A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A71B3-2A9E-4381-8D1E-558BAA7959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audio" Target="../media/drumroll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59436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nside Out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Vocabulary Wo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1920" y="563832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Gra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it 2 Week 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Picture 13" descr="The Circuit"/>
          <p:cNvPicPr/>
          <p:nvPr/>
        </p:nvPicPr>
        <p:blipFill>
          <a:blip r:embed="rId1"/>
          <a:stretch/>
        </p:blipFill>
        <p:spPr>
          <a:xfrm>
            <a:off x="6116760" y="228600"/>
            <a:ext cx="23605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0769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unscrew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 lid from off the top of the water ju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pene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ool used for turn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1905120" y="3733920"/>
            <a:ext cx="5105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6840" y="45684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y kindergarten teacher kept a jar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aterpillar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or us to examin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ormlike bugs that become butterfl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arthwor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533520" y="3429000"/>
            <a:ext cx="784836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0" y="4568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was an artist at the fair that sol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ketch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peopl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hot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awing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2819520" y="4495680"/>
            <a:ext cx="3276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m regretted treating the teacher with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disrespec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ishono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aracte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3048120" y="3581280"/>
            <a:ext cx="350496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waited patiently to see when the insect would come out of it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oco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vering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pider web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1523880" y="3657600"/>
            <a:ext cx="5639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81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was almost noon before Tim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merg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rom his Saturday morning of extra sleep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ppeare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addle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1371600" y="3886200"/>
            <a:ext cx="6019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rancher employ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igrant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rom time to tim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eople who rarely mov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eople who often mov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1371600" y="4419720"/>
            <a:ext cx="5486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360" y="3276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00"/>
                </a:solidFill>
                <a:latin typeface="Comic Sans MS"/>
              </a:rPr>
              <a:t>You’ve got it!</a:t>
            </a:r>
            <a:endParaRPr b="0" lang="en-US" sz="10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18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04920" y="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Words to Know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533520" y="1600200"/>
            <a:ext cx="3581280" cy="8380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caterpillar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533520" y="2895480"/>
            <a:ext cx="3581280" cy="838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cocoon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304920" y="4267080"/>
            <a:ext cx="3733560" cy="990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disrespect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4876920" y="1371600"/>
            <a:ext cx="3047760" cy="8380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emerg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4800600" y="2743200"/>
            <a:ext cx="3733920" cy="8380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migrant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4952880" y="3886200"/>
            <a:ext cx="373392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ketche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5105520" y="5257800"/>
            <a:ext cx="3581280" cy="990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unscrewe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2971800" y="1905120"/>
            <a:ext cx="5410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to show a lack of respect; to be rude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4038480" y="609480"/>
            <a:ext cx="3581640" cy="12193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disrespect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228600" y="304920"/>
            <a:ext cx="2666880" cy="44956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terpilla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co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respe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er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gra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ketch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screw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6" descr="MCPE07021_0000[1]"/>
          <p:cNvPicPr/>
          <p:nvPr/>
        </p:nvPicPr>
        <p:blipFill>
          <a:blip r:embed="rId1"/>
          <a:stretch/>
        </p:blipFill>
        <p:spPr>
          <a:xfrm>
            <a:off x="3048120" y="4724280"/>
            <a:ext cx="1566720" cy="19036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MCPE06918_0000[1]"/>
          <p:cNvPicPr/>
          <p:nvPr/>
        </p:nvPicPr>
        <p:blipFill>
          <a:blip r:embed="rId2"/>
          <a:stretch/>
        </p:blipFill>
        <p:spPr>
          <a:xfrm>
            <a:off x="6781680" y="4724280"/>
            <a:ext cx="158616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123720" y="1523520"/>
            <a:ext cx="54104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he wormlike larvae of   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insects such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s butterflies and moth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3505320" y="228600"/>
            <a:ext cx="3962160" cy="12193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caterpillar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228600" y="152280"/>
            <a:ext cx="2666880" cy="44960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terpilla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co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respe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er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gra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ketch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screw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5" descr="MPj04069680000[1]"/>
          <p:cNvPicPr/>
          <p:nvPr/>
        </p:nvPicPr>
        <p:blipFill>
          <a:blip r:embed="rId1"/>
          <a:stretch/>
        </p:blipFill>
        <p:spPr>
          <a:xfrm>
            <a:off x="0" y="2362320"/>
            <a:ext cx="411480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3581280" y="2285640"/>
            <a:ext cx="51055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to come into view; come out; come up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4419720" y="1143000"/>
            <a:ext cx="3504960" cy="12193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emerg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228600" y="304920"/>
            <a:ext cx="2666880" cy="44956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terpilla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co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respe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er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gra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ketch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screw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8" descr="MPj04275960000[1]"/>
          <p:cNvPicPr/>
          <p:nvPr/>
        </p:nvPicPr>
        <p:blipFill>
          <a:blip r:embed="rId1"/>
          <a:stretch/>
        </p:blipFill>
        <p:spPr>
          <a:xfrm>
            <a:off x="380880" y="685800"/>
            <a:ext cx="3657600" cy="26827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9" descr="MCj02379230000[1]"/>
          <p:cNvPicPr/>
          <p:nvPr/>
        </p:nvPicPr>
        <p:blipFill>
          <a:blip r:embed="rId2"/>
          <a:stretch/>
        </p:blipFill>
        <p:spPr>
          <a:xfrm>
            <a:off x="2590920" y="4267080"/>
            <a:ext cx="145728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4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00400" y="1905120"/>
            <a:ext cx="5410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worker, especially a farm worker, who travels from one area to another in search of work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4038480" y="609480"/>
            <a:ext cx="3581640" cy="12193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migrant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228600" y="304920"/>
            <a:ext cx="2666880" cy="44956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terpilla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co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respe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er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gra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ketch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screw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9" descr="MPj04037490000[1]"/>
          <p:cNvPicPr/>
          <p:nvPr/>
        </p:nvPicPr>
        <p:blipFill>
          <a:blip r:embed="rId1"/>
          <a:stretch/>
        </p:blipFill>
        <p:spPr>
          <a:xfrm>
            <a:off x="533520" y="533520"/>
            <a:ext cx="2081160" cy="31208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1" descr="MPj04065340000[1]"/>
          <p:cNvPicPr/>
          <p:nvPr/>
        </p:nvPicPr>
        <p:blipFill>
          <a:blip r:embed="rId2"/>
          <a:stretch/>
        </p:blipFill>
        <p:spPr>
          <a:xfrm>
            <a:off x="304920" y="4267080"/>
            <a:ext cx="3429000" cy="22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4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200400" y="2362320"/>
            <a:ext cx="5486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drawn roughly and quickly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3962520" y="762120"/>
            <a:ext cx="3581280" cy="12189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ketche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228600" y="304920"/>
            <a:ext cx="2666880" cy="44956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terpilla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co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respe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er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gra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ketch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screw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4" name="Picture 6" descr="MPj04386750000[1]"/>
          <p:cNvPicPr/>
          <p:nvPr/>
        </p:nvPicPr>
        <p:blipFill>
          <a:blip r:embed="rId1"/>
          <a:stretch/>
        </p:blipFill>
        <p:spPr>
          <a:xfrm>
            <a:off x="228600" y="304920"/>
            <a:ext cx="3378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657240" y="2362320"/>
            <a:ext cx="47242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loosened or taken off by turning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3733920" y="457200"/>
            <a:ext cx="3733560" cy="12193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unscrewe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228600" y="304920"/>
            <a:ext cx="2666880" cy="44956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terpilla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co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respe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er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gra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ketch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screw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Picture 9" descr="MCj02312330000[1]"/>
          <p:cNvPicPr/>
          <p:nvPr/>
        </p:nvPicPr>
        <p:blipFill>
          <a:blip r:embed="rId1"/>
          <a:stretch/>
        </p:blipFill>
        <p:spPr>
          <a:xfrm>
            <a:off x="2514600" y="4905360"/>
            <a:ext cx="2233440" cy="19526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MCj03499620000[1]"/>
          <p:cNvPicPr/>
          <p:nvPr/>
        </p:nvPicPr>
        <p:blipFill>
          <a:blip r:embed="rId2"/>
          <a:stretch/>
        </p:blipFill>
        <p:spPr>
          <a:xfrm>
            <a:off x="5943600" y="5105520"/>
            <a:ext cx="1798560" cy="14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048120" y="2362320"/>
            <a:ext cx="5486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of silky thread spun by the larvae of various insects to live in while they are developing into adul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3962520" y="762120"/>
            <a:ext cx="3581280" cy="12189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cocoon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228600" y="304920"/>
            <a:ext cx="2666880" cy="44956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terpilla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co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respe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er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gra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ketch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screw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3" name="Picture 6" descr="Picture of Butterfly Cocoon Picture"/>
          <p:cNvPicPr/>
          <p:nvPr/>
        </p:nvPicPr>
        <p:blipFill>
          <a:blip r:embed="rId1"/>
          <a:stretch/>
        </p:blipFill>
        <p:spPr>
          <a:xfrm>
            <a:off x="228600" y="304920"/>
            <a:ext cx="29894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3T04:11:38Z</dcterms:created>
  <dc:creator>Jefferson County BoE</dc:creator>
  <dc:description/>
  <dc:language>en-US</dc:language>
  <cp:lastModifiedBy>dyera</cp:lastModifiedBy>
  <dcterms:modified xsi:type="dcterms:W3CDTF">2011-01-24T16:01:30Z</dcterms:modified>
  <cp:revision>29</cp:revision>
  <dc:subject/>
  <dc:title>Frindle Vocabulary Words</dc:title>
</cp:coreProperties>
</file>